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0CC-3AE2-43FA-9BB8-505A9767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BB5-4D83-4B12-B2D4-04D8D25A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D6C-D42E-4E1A-946E-731CA391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D08-7488-4194-8D43-FB9550C1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5B6-A365-4A91-818B-0C57BD43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6E2-91AB-46FE-8944-FF205800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9A7-6368-4D35-9C80-592E499E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5F2-4DE6-4DCA-A177-4FC675F4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7A1-E27B-4B53-B031-E52819AC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7C6-E06B-4BEE-8758-44A1B020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11C-7F7B-4F3E-BB05-D2EEC52A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0D0-84F0-411B-B18B-7F32A70F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34D9-2F19-4C27-8C3A-20944513A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rupocultivar.com.br/artigos/artigo.asp?id=116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469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 Black"/>
              </a:rPr>
              <a:t>  </a:t>
            </a:r>
            <a:r>
              <a:rPr b="1" lang="en-US" sz="4800" spc="-1" strike="noStrike">
                <a:solidFill>
                  <a:srgbClr val="99cc00"/>
                </a:solidFill>
                <a:latin typeface="Arial Black"/>
              </a:rPr>
              <a:t>Mosca Bran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2637000"/>
            <a:ext cx="2619360" cy="1742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9520" y="1890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77040" y="271440"/>
            <a:ext cx="2371680" cy="193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95280" y="472428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334200" y="4686480"/>
            <a:ext cx="24858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ções geográf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e latitudes 30ºN e 30º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ria da Ásia Men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aca cerca de 506 tipos de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tor de vírus de planta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geminivir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ctada no Brasil em 1923, 1968 (SP), 1973 (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.argentifolii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ício de 1990 – Austrál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ados da década de 1990 –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90 – SP (plantas ornamenta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93 – DF (tomate e pepi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95-1996 – BA e PE (vale do São Francis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0% plantio comercial de tomate já infectado (DF, BA, 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salamento assimét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rupocultivar.com.br/artigos/artigo.asp?id=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an-Sheng Zang e Shu-Sheng Liu. A comparative study on mating behaviour between the B biotype and the non-B biotypeof Bemisia tabaci (Hemiptera: Aleyrodidae) from Zhejiang, China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J.Insect Behavi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20 (2), março 2007. DOI: 10.1007/s10905-006-9066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misia Bionomics and Management of a Global 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8:20:15Z</dcterms:created>
  <dc:creator>Aluno</dc:creator>
  <dc:description/>
  <dc:language>en-US</dc:language>
  <cp:lastModifiedBy>Aluno</cp:lastModifiedBy>
  <dcterms:modified xsi:type="dcterms:W3CDTF">2011-02-08T19:50:49Z</dcterms:modified>
  <cp:revision>5</cp:revision>
  <dc:subject/>
  <dc:title>Slide 1</dc:title>
</cp:coreProperties>
</file>